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91A7-4263-4D96-B5C0-89DC6BB28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DEB0-8307-4D39-BCE1-0C17A49C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5351-2AB6-4E30-9640-5CFC81B88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469B-94B3-4CA6-AF40-B2AF3A55F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1E9D-B3BB-4E48-9A52-7CC277DF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A5E0-9FF9-4845-8B6D-4E51E092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16C3-78FF-4CAF-A9AA-AC2BBA7C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1611-DED0-422F-A927-DB1F5035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5CC4-0053-4041-A6A5-16D88DE6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F58F-4D1A-4866-84FE-480BB85F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A73F-8043-4925-AF91-72F9E489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3DDB-07C5-4B85-9AB6-34AA8C47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8209-FC61-4E0C-B308-05B582F17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ow Char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82880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182880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pr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3276720"/>
            <a:ext cx="1524240" cy="144756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81480" y="3429000"/>
            <a:ext cx="14479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62920" y="3429000"/>
            <a:ext cx="144756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og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5334120"/>
            <a:ext cx="14479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2362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4038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629400" y="4114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97480" y="35812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5360" y="48006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4340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7772400" y="4723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22200" y="1219320"/>
            <a:ext cx="33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sure to enter your own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5:48:27Z</dcterms:created>
  <dc:creator>schwalbe</dc:creator>
  <dc:description/>
  <dc:language>en-US</dc:language>
  <cp:lastModifiedBy>schwalbe</cp:lastModifiedBy>
  <dcterms:modified xsi:type="dcterms:W3CDTF">2005-10-14T21:49:41Z</dcterms:modified>
  <cp:revision>104</cp:revision>
  <dc:subject/>
  <dc:title>Slide 1</dc:title>
</cp:coreProperties>
</file>